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585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4928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81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585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74928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-360" y="520200"/>
            <a:ext cx="981540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0000" y="7056360"/>
            <a:ext cx="1092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EB5E5646-8149-4D93-870F-A522FC016F52}" type="slidenum">
              <a:rPr b="0" lang="en-GB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40"/>
            <a:ext cx="10069560" cy="241200"/>
            <a:chOff x="0" y="84240"/>
            <a:chExt cx="10069560" cy="241200"/>
          </a:xfrm>
        </p:grpSpPr>
        <p:sp>
          <p:nvSpPr>
            <p:cNvPr id="2" name=""/>
            <p:cNvSpPr/>
            <p:nvPr/>
          </p:nvSpPr>
          <p:spPr>
            <a:xfrm>
              <a:off x="0" y="84240"/>
              <a:ext cx="10069560" cy="241200"/>
            </a:xfrm>
            <a:prstGeom prst="roundRect">
              <a:avLst>
                <a:gd name="adj" fmla="val 6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641760" y="146160"/>
            <a:ext cx="3397320" cy="338040"/>
            <a:chOff x="3641760" y="146160"/>
            <a:chExt cx="3397320" cy="338040"/>
          </a:xfrm>
        </p:grpSpPr>
        <p:sp>
          <p:nvSpPr>
            <p:cNvPr id="4" name=""/>
            <p:cNvSpPr/>
            <p:nvPr/>
          </p:nvSpPr>
          <p:spPr>
            <a:xfrm>
              <a:off x="3641760" y="146160"/>
              <a:ext cx="33973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641760" y="146160"/>
              <a:ext cx="3392280" cy="333360"/>
              <a:chOff x="3641760" y="146160"/>
              <a:chExt cx="339228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3641760" y="146160"/>
                <a:ext cx="339228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3641760" y="146160"/>
                <a:ext cx="3389400" cy="330120"/>
                <a:chOff x="3641760" y="146160"/>
                <a:chExt cx="3389400" cy="3301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641760" y="146160"/>
                  <a:ext cx="338940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3641760" y="146160"/>
                  <a:ext cx="3387600" cy="328680"/>
                  <a:chOff x="3641760" y="146160"/>
                  <a:chExt cx="3387600" cy="3286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641760" y="146160"/>
                    <a:ext cx="3387600" cy="32868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3641760" y="146160"/>
                    <a:ext cx="3387600" cy="328680"/>
                    <a:chOff x="3641760" y="146160"/>
                    <a:chExt cx="3387600" cy="32868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3641760" y="146160"/>
                      <a:ext cx="3387600" cy="3286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4055760" y="146160"/>
                      <a:ext cx="2559600" cy="231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MOD Meeting, Spring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4" name=""/>
          <p:cNvGrpSpPr/>
          <p:nvPr/>
        </p:nvGrpSpPr>
        <p:grpSpPr>
          <a:xfrm>
            <a:off x="3460680" y="7058160"/>
            <a:ext cx="4006800" cy="348480"/>
            <a:chOff x="3460680" y="7058160"/>
            <a:chExt cx="4006800" cy="348480"/>
          </a:xfrm>
        </p:grpSpPr>
        <p:sp>
          <p:nvSpPr>
            <p:cNvPr id="15" name=""/>
            <p:cNvSpPr/>
            <p:nvPr/>
          </p:nvSpPr>
          <p:spPr>
            <a:xfrm>
              <a:off x="3460680" y="7058160"/>
              <a:ext cx="40068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3460680" y="7058160"/>
              <a:ext cx="4002120" cy="348480"/>
              <a:chOff x="3460680" y="7058160"/>
              <a:chExt cx="4002120" cy="348480"/>
            </a:xfrm>
          </p:grpSpPr>
          <p:sp>
            <p:nvSpPr>
              <p:cNvPr id="17" name=""/>
              <p:cNvSpPr/>
              <p:nvPr/>
            </p:nvSpPr>
            <p:spPr>
              <a:xfrm>
                <a:off x="3460680" y="7058160"/>
                <a:ext cx="40021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" name=""/>
              <p:cNvGrpSpPr/>
              <p:nvPr/>
            </p:nvGrpSpPr>
            <p:grpSpPr>
              <a:xfrm>
                <a:off x="3460680" y="7058160"/>
                <a:ext cx="3998880" cy="348480"/>
                <a:chOff x="3460680" y="7058160"/>
                <a:chExt cx="3998880" cy="3484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3460680" y="7058160"/>
                  <a:ext cx="399888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" name=""/>
                <p:cNvGrpSpPr/>
                <p:nvPr/>
              </p:nvGrpSpPr>
              <p:grpSpPr>
                <a:xfrm>
                  <a:off x="3460680" y="7058160"/>
                  <a:ext cx="3997440" cy="348480"/>
                  <a:chOff x="3460680" y="7058160"/>
                  <a:chExt cx="3997440" cy="34848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3460680" y="7058160"/>
                    <a:ext cx="3997440" cy="32832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" name=""/>
                  <p:cNvGrpSpPr/>
                  <p:nvPr/>
                </p:nvGrpSpPr>
                <p:grpSpPr>
                  <a:xfrm>
                    <a:off x="3460680" y="7058160"/>
                    <a:ext cx="3997440" cy="348480"/>
                    <a:chOff x="3460680" y="7058160"/>
                    <a:chExt cx="3997440" cy="348480"/>
                  </a:xfrm>
                </p:grpSpPr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3460680" y="7058160"/>
                      <a:ext cx="3997440" cy="32832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4064760" y="7058160"/>
                      <a:ext cx="2788920" cy="348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ili Zhang, FlyBase - Harv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104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840" indent="-2746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896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57480" indent="-282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058400"/>
            <a:ext cx="9202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mparative Genome Annotation of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Drosophil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pseudoobscur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and Its Implementation in chado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93760" y="101592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4063" t="23125" r="2813" b="17500"/>
          <a:stretch/>
        </p:blipFill>
        <p:spPr>
          <a:xfrm>
            <a:off x="1025640" y="91908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87800" y="743040"/>
            <a:ext cx="3746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1920960"/>
            <a:ext cx="8670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FlyBase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ylor College of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ll Gelba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ephen Rich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rian Bettencou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ue L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avel Hradec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Kim Wo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an Letovs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i 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vid Emme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George Wein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one at FlyBase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ichard Gib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69960" y="1450800"/>
            <a:ext cx="7315200" cy="551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320" y="755640"/>
            <a:ext cx="658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phylogen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7880" y="704880"/>
            <a:ext cx="903600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riven by orthology to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elanogaster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mel) genome (over 13000 annotated genes with 19000 protein isof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cused on protein-coding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BLASTN: query: 13659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oteins                      subject: 8242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. pseudoobscur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pse)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GS        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y, arm-ness conservation of fly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tained genomic locations of 12179 putative orthologs to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8240" y="650880"/>
            <a:ext cx="85251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: Genscan, Twinscan, Genewise (totally 53691 predi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 filtering: reciprocal best blastp hits (10515 predictions selec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ooking for overlap between predictions and TBLASTN ortholog calls, 9946 significantly overlapped predictions were promoted to be gene model an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8000" y="558720"/>
            <a:ext cx="823752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pping of Dpse genes FlyBase Curated from liter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~500 FlyBase curated Dp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34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ne most representative GenBank                     a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2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ambiguous hits against Dpse WGS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96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rged with TBLASTN ortholog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orted into Dpse annotation set as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tic loci on the ge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5240" y="2149560"/>
            <a:ext cx="84884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vidence data for Dpse anno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 between Dmel and Dpse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4,5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pse EST alignments: 34,611 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35080" y="1065240"/>
            <a:ext cx="80694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mplementation of Comparative Data in Ch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ata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rthologous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35080" y="981000"/>
            <a:ext cx="7788240" cy="5883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6800" y="3100320"/>
            <a:ext cx="1755720" cy="180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2440" y="4395960"/>
            <a:ext cx="100656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6800" y="3086280"/>
            <a:ext cx="175572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9480" y="3414600"/>
            <a:ext cx="274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9520" y="3821040"/>
            <a:ext cx="1408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17640" y="3417840"/>
            <a:ext cx="228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3421080"/>
            <a:ext cx="5032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0480" y="3387600"/>
            <a:ext cx="27468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34280" y="3427560"/>
            <a:ext cx="54936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9160" y="3394080"/>
            <a:ext cx="4474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4760" y="5514840"/>
            <a:ext cx="822240" cy="180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13280" y="3106800"/>
            <a:ext cx="228600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6200" y="5878440"/>
            <a:ext cx="822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6205680"/>
            <a:ext cx="82224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3400" y="5376960"/>
            <a:ext cx="4351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feature_relationship (subj-&gt;ob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398840"/>
            <a:ext cx="1143000" cy="180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54760" y="3822840"/>
            <a:ext cx="188280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6540480"/>
            <a:ext cx="822240" cy="144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341964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82800" y="342108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8960" y="3460680"/>
            <a:ext cx="339840" cy="37008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0560" y="342756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4322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34718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8800" y="3830760"/>
            <a:ext cx="341280" cy="541080"/>
          </a:xfrm>
          <a:custGeom>
            <a:avLst/>
            <a:gdLst/>
            <a:ahLst/>
            <a:rect l="l" t="t" r="r" b="b"/>
            <a:pathLst>
              <a:path w="949" h="1503">
                <a:moveTo>
                  <a:pt x="0" y="1502"/>
                </a:moveTo>
                <a:cubicBezTo>
                  <a:pt x="249" y="1074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4040" y="3833640"/>
            <a:ext cx="341280" cy="541440"/>
          </a:xfrm>
          <a:custGeom>
            <a:avLst/>
            <a:gdLst/>
            <a:ahLst/>
            <a:rect l="l" t="t" r="r" b="b"/>
            <a:pathLst>
              <a:path w="949" h="1504">
                <a:moveTo>
                  <a:pt x="0" y="1503"/>
                </a:moveTo>
                <a:cubicBezTo>
                  <a:pt x="249" y="1075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7680" y="2435400"/>
            <a:ext cx="1137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p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4200" y="2438280"/>
            <a:ext cx="1138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m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300400"/>
            <a:ext cx="3413160" cy="792000"/>
          </a:xfrm>
          <a:custGeom>
            <a:avLst/>
            <a:gdLst/>
            <a:ahLst/>
            <a:rect l="l" t="t" r="r" b="b"/>
            <a:pathLst>
              <a:path w="9481" h="2201">
                <a:moveTo>
                  <a:pt x="119" y="2111"/>
                </a:moveTo>
                <a:cubicBezTo>
                  <a:pt x="155" y="1809"/>
                  <a:pt x="0" y="1438"/>
                  <a:pt x="554" y="1259"/>
                </a:cubicBezTo>
                <a:cubicBezTo>
                  <a:pt x="1026" y="1107"/>
                  <a:pt x="1358" y="792"/>
                  <a:pt x="1778" y="554"/>
                </a:cubicBezTo>
                <a:cubicBezTo>
                  <a:pt x="2142" y="347"/>
                  <a:pt x="2538" y="174"/>
                  <a:pt x="3002" y="113"/>
                </a:cubicBezTo>
                <a:cubicBezTo>
                  <a:pt x="3394" y="61"/>
                  <a:pt x="3792" y="88"/>
                  <a:pt x="4188" y="83"/>
                </a:cubicBezTo>
                <a:cubicBezTo>
                  <a:pt x="4595" y="79"/>
                  <a:pt x="5014" y="149"/>
                  <a:pt x="5412" y="83"/>
                </a:cubicBezTo>
                <a:cubicBezTo>
                  <a:pt x="5920" y="0"/>
                  <a:pt x="6146" y="284"/>
                  <a:pt x="6598" y="348"/>
                </a:cubicBezTo>
                <a:cubicBezTo>
                  <a:pt x="7116" y="422"/>
                  <a:pt x="7442" y="796"/>
                  <a:pt x="7861" y="1024"/>
                </a:cubicBezTo>
                <a:cubicBezTo>
                  <a:pt x="8285" y="1254"/>
                  <a:pt x="8566" y="1608"/>
                  <a:pt x="9046" y="1788"/>
                </a:cubicBezTo>
                <a:lnTo>
                  <a:pt x="9401" y="2082"/>
                </a:lnTo>
                <a:lnTo>
                  <a:pt x="9480" y="220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7120" y="3106800"/>
            <a:ext cx="271440" cy="71100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3108240"/>
            <a:ext cx="271440" cy="71136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1859040"/>
            <a:ext cx="29862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utative_ortholog_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5800" y="3300480"/>
            <a:ext cx="1683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art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2160" y="3911760"/>
            <a:ext cx="1917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roduced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1128600"/>
            <a:ext cx="4721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thology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93760" y="105264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